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68069"/>
        <c:axId val="89374116"/>
      </c:barChart>
      <c:catAx>
        <c:axId val="70868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74116"/>
        <c:crosses val="autoZero"/>
        <c:auto val="1"/>
        <c:lblAlgn val="ctr"/>
        <c:lblOffset val="100"/>
        <c:noMultiLvlLbl val="0"/>
      </c:catAx>
      <c:valAx>
        <c:axId val="89374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68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C45-4DC4-4ED0-A494-543C7DFF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045-396D-401D-AA13-E102F334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2E4-812E-431E-8963-B58E8425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A94-92CD-4DB6-A87E-879FABA3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342-FF89-402B-8EF6-7220551C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4EF-CA61-40CB-940C-843FA697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02F-B6C3-434B-AD61-A3BFAF83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6E4-0946-4151-856B-25CAFA13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BCE-F15A-44F3-ACBD-23C388AE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C4C-5FD1-4A77-A99D-690D915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4E8-65BA-4770-BD53-6D77DEC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709-6BDD-4F60-BA28-516A2BA0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93691-678C-477B-92A5-A32632250C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