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35146"/>
        <c:axId val="38362708"/>
      </c:barChart>
      <c:catAx>
        <c:axId val="29235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62708"/>
        <c:crosses val="autoZero"/>
        <c:auto val="1"/>
        <c:lblAlgn val="ctr"/>
        <c:lblOffset val="100"/>
        <c:noMultiLvlLbl val="0"/>
      </c:catAx>
      <c:valAx>
        <c:axId val="38362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35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B44-6386-48B7-A51B-B86B2EBC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3CCB-7984-4729-9DA0-E30D8858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C898-6C36-4959-9B87-B3944899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A3A-2E11-4911-A07D-5B679D19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304-059E-410E-9610-DC5170D2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31A-DC6C-457A-8331-8717C303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831-EB1A-499E-8F16-A9B92918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E49-1516-40DB-AD4D-7FFE5836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E5F-A122-4EDD-9291-E1863E1F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1F8-E35C-44CF-A8E7-867CDAC0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73D-68BA-4540-856C-C25CFAD8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A70-304A-42C1-953B-75D95AC4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AC836-C790-4709-BE92-3DF7578EF8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