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92709"/>
        <c:axId val="59873998"/>
      </c:barChart>
      <c:catAx>
        <c:axId val="59192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3998"/>
        <c:crosses val="autoZero"/>
        <c:auto val="1"/>
        <c:lblAlgn val="ctr"/>
        <c:lblOffset val="100"/>
        <c:noMultiLvlLbl val="0"/>
      </c:catAx>
      <c:valAx>
        <c:axId val="59873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2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5B2-CD6E-414E-B502-012FC66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9B4-848E-4DCD-B45A-475EFC72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038-4812-4CDD-8E02-1AB72FF7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E13-F382-4ACC-9DE7-7D12D999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A1C-C2C3-4977-B674-3B3BE84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2C6-AB8F-4606-9BAF-5C3EEEB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AC5-71DC-4CF6-9890-CB34115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7D0-2AA9-459E-AC3E-2A3A407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224-305F-49D9-BD32-3D4BFFD3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59F-2787-42EC-8616-579246F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C25-E8DB-4C13-ADE4-4D449A6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F57-DCC6-4C15-BE8F-5EA9962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63235-CC76-471F-9B00-F5C6534FA2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