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06384"/>
        <c:axId val="25166261"/>
      </c:barChart>
      <c:catAx>
        <c:axId val="56306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66261"/>
        <c:crosses val="autoZero"/>
        <c:auto val="1"/>
        <c:lblAlgn val="ctr"/>
        <c:lblOffset val="100"/>
        <c:noMultiLvlLbl val="0"/>
      </c:catAx>
      <c:valAx>
        <c:axId val="25166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06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C1DD-AF40-4312-97DE-B14D073B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6D3-C471-4ADF-B333-3400440A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F7F-D7FD-4A5B-BA6F-3CE49C42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52C-6A4A-42CB-915D-CEFAA7A1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5937-D82D-45B5-B829-CABE22CD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DB3-B4FF-4B13-916A-DB152CF9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2A2-2027-48E0-B49B-71A83CA5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9AF-E3E9-4566-ABCE-C162F94C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9BD-E494-4C8E-B7BE-97CA768B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FC2-281D-415C-87D9-626FAE56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746-C8D8-410C-95F9-91CFA11D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289-0F5B-418E-93F0-2F2F7834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A8FAD-FE79-4ED3-909E-49AA796F8C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