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99376"/>
        <c:axId val="14845044"/>
      </c:barChart>
      <c:catAx>
        <c:axId val="34999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45044"/>
        <c:crosses val="autoZero"/>
        <c:auto val="1"/>
        <c:lblAlgn val="ctr"/>
        <c:lblOffset val="100"/>
        <c:noMultiLvlLbl val="0"/>
      </c:catAx>
      <c:valAx>
        <c:axId val="14845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99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721-1F25-4A29-B288-3A749DB8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D14-BD24-4E53-89D0-CC79054C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FF1-0C3B-4369-BFD4-8F355874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67E-EB73-4AA1-87EA-B5A6AD7E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ADB-EF7A-4C84-8C4B-7EEBED5D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221-AB73-436D-9B1D-88314B8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033-FE64-4FC0-8E14-0A74533C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7A0-45CE-4315-90E7-9C390DFB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BA2-420D-44BF-A33C-E4411AE9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F78-321E-4C18-9BFD-E9452B2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6E9-43F1-478B-B793-C48F7EC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EAE-C350-4ED6-BBA3-C41D765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0962F-BB0F-4141-9DB0-227606F32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