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722402"/>
        <c:axId val="86549272"/>
      </c:barChart>
      <c:catAx>
        <c:axId val="817224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49272"/>
        <c:crosses val="autoZero"/>
        <c:auto val="1"/>
        <c:lblAlgn val="ctr"/>
        <c:lblOffset val="100"/>
        <c:noMultiLvlLbl val="0"/>
      </c:catAx>
      <c:valAx>
        <c:axId val="865492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224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6C59-5795-48B2-B533-E3C4FBB76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7BC1-9A4D-44F1-A664-931C9A31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CC97-4A47-4A96-A954-1CB2CB75A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AB97-446A-409C-A67A-E27DAC01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45EA-E962-4AD2-B2DD-19F46801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F611-51A0-4E74-A745-E7BBC0F2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8D0B-D12F-43BE-B5A5-505A971B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D7D0-0211-4E21-AE8C-430F26F9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C38E-38A5-45D9-B339-C5E9D2F2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4546-7613-44D7-A2F5-76B3F149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2485-381E-45F4-A54D-23C0BDA1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2B54-D843-4D74-9BAF-67B3483F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355DC-FC74-4196-A422-9830D063A4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